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png" ContentType="image/png"/>
  <Override PartName="/ppt/media/hornturck..wav" ContentType="audio/x-wav"/>
  <Override PartName="/ppt/media/allwrong.wav" ContentType="audio/x-wav"/>
  <Override PartName="/ppt/media/image4.wmf" ContentType="image/x-wmf"/>
  <Override PartName="/ppt/media/image7.jpeg" ContentType="image/jpeg"/>
  <Override PartName="/ppt/media/image6.png" ContentType="image/png"/>
  <Override PartName="/ppt/media/rumble.wav" ContentType="audio/x-wav"/>
  <Override PartName="/ppt/media/image9.jpeg" ContentType="image/jpeg"/>
  <Override PartName="/ppt/media/alarmbuzzer.wav" ContentType="audio/x-wav"/>
  <Override PartName="/ppt/media/image2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3.jpeg" ContentType="image/jpeg"/>
  <Override PartName="/ppt/media/thatsbetr.wav" ContentType="audio/x-wav"/>
  <Override PartName="/ppt/media/image17.wmf" ContentType="image/x-wmf"/>
  <Override PartName="/ppt/media/image12.jpeg" ContentType="image/jpeg"/>
  <Override PartName="/ppt/media/cashreg.wav" ContentType="audio/x-wav"/>
  <Override PartName="/ppt/media/image11.wmf" ContentType="image/x-wmf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02A-7724-48D8-9F81-13BFF6C2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898-2F83-421D-862A-A4094F3F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B03-035F-4D4E-9578-112BCF98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B0C-43EC-4822-BBC0-5201CCE4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D159-E887-4A1B-8E3B-3A77EF8D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FCD2-9C64-4F8C-87FA-DB56AD0F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2482-D373-47EA-B617-BCD320C3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9EA8-2220-45DB-96BC-D1AFC1E7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088E-D42E-4101-95BB-E53DCACD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381B-C437-4DFB-BD4E-897CB9BA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87BE-7486-4234-91F1-5422C861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627-BDEF-4CBD-91B4-8D78F978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F8AB-0E88-41D3-9320-51170877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3EFE-BF57-4192-9AEE-B5058D05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483B-C93A-442B-A7E0-8057EDCB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3C70-61DD-4FFE-92EC-D8F1693F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2BA2-71BA-4768-9D64-D20F0747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AEA-C9B2-4660-97E1-B30B4AD7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CDE-E796-4943-92B8-C15ABDAE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C8A-B28B-4D2B-B25E-873FE361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5E87-DC04-4833-A6CB-ACB03BE4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477-A061-4137-A513-4EE1B6ED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EEF-86A1-4B9E-BC83-17712542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F3A-19C6-4ACF-801C-1B04DEFE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7F1F-2D41-48F4-8083-12884BC9FF6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D033-3F7D-4D35-8971-8DAFAD1F09B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larmbuzzer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anatee.k12.fl.us/sites/elementary/palmasola/mmbb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rumbl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hornturck.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llwrong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entuckyvirtual.com/shop/uscitemdetail.asp?item=2&amp;stk_code=br06018" TargetMode="External"/><Relationship Id="rId2" Type="http://schemas.openxmlformats.org/officeDocument/2006/relationships/hyperlink" Target="http://www.kentuckyvirtual.com/shop/uscitemdetail.asp?item=2&amp;stk_code=br06018" TargetMode="External"/><Relationship Id="rId3" Type="http://schemas.openxmlformats.org/officeDocument/2006/relationships/image" Target="../media/image12.jpeg"/><Relationship Id="rId4" Type="http://schemas.openxmlformats.org/officeDocument/2006/relationships/audio" Target="../media/thatsbetr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ltiple Meaning Wor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502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. The peas were in a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I can do it by myself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Can you help me do the dishe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Mom gave me a can of peanuts for the part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30840" y="507060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0040" y="43084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4480" y="2400480"/>
            <a:ext cx="5315040" cy="2012760"/>
            <a:chOff x="1914480" y="2400480"/>
            <a:chExt cx="5315040" cy="2012760"/>
          </a:xfrm>
        </p:grpSpPr>
        <p:sp>
          <p:nvSpPr>
            <p:cNvPr id="128" name=""/>
            <p:cNvSpPr/>
            <p:nvPr/>
          </p:nvSpPr>
          <p:spPr>
            <a:xfrm>
              <a:off x="1914480" y="2400480"/>
              <a:ext cx="5315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14480" y="2400480"/>
              <a:ext cx="531504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  </a:t>
              </a:r>
              <a:r>
                <a:rPr b="0" lang="en-US" sz="12600" spc="-1" strike="noStrike">
                  <a:solidFill>
                    <a:srgbClr val="eaeaea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                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0857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85760" y="2567160"/>
            <a:ext cx="6972480" cy="1692000"/>
            <a:chOff x="1085760" y="2567160"/>
            <a:chExt cx="6972480" cy="1692000"/>
          </a:xfrm>
        </p:grpSpPr>
        <p:sp>
          <p:nvSpPr>
            <p:cNvPr id="132" name=""/>
            <p:cNvSpPr/>
            <p:nvPr/>
          </p:nvSpPr>
          <p:spPr>
            <a:xfrm>
              <a:off x="1085760" y="2567160"/>
              <a:ext cx="6972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085760" y="2567160"/>
              <a:ext cx="4572000" cy="1692000"/>
              <a:chOff x="1085760" y="2567160"/>
              <a:chExt cx="4572000" cy="1692000"/>
            </a:xfrm>
          </p:grpSpPr>
          <p:sp>
            <p:nvSpPr>
              <p:cNvPr id="134" name=""/>
              <p:cNvSpPr/>
              <p:nvPr/>
            </p:nvSpPr>
            <p:spPr>
              <a:xfrm>
                <a:off x="1085760" y="2567160"/>
                <a:ext cx="4572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85760" y="2567160"/>
                <a:ext cx="4572000" cy="16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05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                               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" descr="Canned Peas"/>
          <p:cNvPicPr/>
          <p:nvPr/>
        </p:nvPicPr>
        <p:blipFill>
          <a:blip r:embed="rId1"/>
          <a:srcRect l="13798" t="19707" r="47424" b="11396"/>
          <a:stretch/>
        </p:blipFill>
        <p:spPr>
          <a:xfrm>
            <a:off x="6996240" y="380880"/>
            <a:ext cx="1309680" cy="1798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0" t="0" r="0" b="21114"/>
          <a:stretch/>
        </p:blipFill>
        <p:spPr>
          <a:xfrm>
            <a:off x="6324480" y="4343400"/>
            <a:ext cx="2206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8. The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gn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id do not ent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Please sign your name on the pap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Can you sign the word cat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I read the sign on the wall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54520" y="568008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C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4480" y="449568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. I have a new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watc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Did you watch me jump rope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My watch is los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I don't watch many television shows!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7160" y="58323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172548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arm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0. I always receive good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mark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 school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The marks on my report card were great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My fingers left marks on the glas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I have marks on my clothes where the milk spilled on them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2080" y="537516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A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162920" y="3962520"/>
            <a:ext cx="103320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manatee.k12.fl.us/sites/elementary/palmasola/mmbb.ht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057040"/>
            <a:ext cx="76960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Multiple Meaning Words are words that have several meanings depending upon how they are used in a sentence.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69080" y="3581280"/>
            <a:ext cx="327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use CONTEXT CLUES t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lp us figure out which mea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corr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5638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t’s Prac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d the underlined word in each sentence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ose the sentence in which the word h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ame meaning as in the original sentence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63400" y="423540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Are you ready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um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. She took a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rip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o Florid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Be careful, or you will trip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We planned our trip togeth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I trip over things very ofte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6680" y="480060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2468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rnturck.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43000" y="457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. I turned on the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ligh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 I could see bett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The feather was very ligh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She wore light colors because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was going to be a hot da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There is only one light in the living room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30840" y="51465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1806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. Will you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y answers for me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Mom wrote a check for the fieldtrip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I will check and see if the cat is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hous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If you get a check it means the answer is wrong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30840" y="499428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72200" y="4000680"/>
            <a:ext cx="2971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lwr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. Will you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how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me how to bake a pie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I want to show you my new to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I went to the show with dad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My favorite television show is on tonigh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78560" y="507060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24480" y="3981600"/>
            <a:ext cx="25909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. Mom put money into her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ban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ccoun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A teller works at a bank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The river had a very high bank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59800" y="491796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A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banking, bank teller"/>
          <p:cNvPicPr/>
          <p:nvPr/>
        </p:nvPicPr>
        <p:blipFill>
          <a:blip r:embed="rId1"/>
          <a:stretch/>
        </p:blipFill>
        <p:spPr>
          <a:xfrm>
            <a:off x="3759120" y="-4314960"/>
            <a:ext cx="12114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entrance to bank"/>
          <p:cNvPicPr/>
          <p:nvPr/>
        </p:nvPicPr>
        <p:blipFill>
          <a:blip r:embed="rId2"/>
          <a:stretch/>
        </p:blipFill>
        <p:spPr>
          <a:xfrm>
            <a:off x="3809880" y="-4314960"/>
            <a:ext cx="1143000" cy="982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767640" y="3657600"/>
            <a:ext cx="237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. Mary likes to come to my house and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ith m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He starred in our class pla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I like to play checker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My favorite play is "My Fair Lady."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59440" y="51465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31840" y="3094200"/>
            <a:ext cx="6880320" cy="671400"/>
            <a:chOff x="1131840" y="3094200"/>
            <a:chExt cx="6880320" cy="671400"/>
          </a:xfrm>
        </p:grpSpPr>
        <p:sp>
          <p:nvSpPr>
            <p:cNvPr id="119" name=""/>
            <p:cNvSpPr/>
            <p:nvPr/>
          </p:nvSpPr>
          <p:spPr>
            <a:xfrm>
              <a:off x="1131840" y="3094200"/>
              <a:ext cx="6880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131840" y="3094200"/>
              <a:ext cx="6651720" cy="671400"/>
              <a:chOff x="1131840" y="3094200"/>
              <a:chExt cx="6651720" cy="671400"/>
            </a:xfrm>
          </p:grpSpPr>
          <p:sp>
            <p:nvSpPr>
              <p:cNvPr id="121" name=""/>
              <p:cNvSpPr/>
              <p:nvPr/>
            </p:nvSpPr>
            <p:spPr>
              <a:xfrm>
                <a:off x="1131840" y="3094200"/>
                <a:ext cx="6651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840" y="3094200"/>
                <a:ext cx="665172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u="sng">
                    <a:solidFill>
                      <a:srgbClr val="ff33cc"/>
                    </a:solidFill>
                    <a:uFillTx/>
                    <a:latin typeface="Verdana"/>
                    <a:hlinkClick r:id="rId1"/>
                  </a:rPr>
                  <a:t>  </a:t>
                </a:r>
                <a:r>
                  <a:rPr b="0" lang="en-US" sz="3800" spc="-1" strike="noStrike">
                    <a:solidFill>
                      <a:srgbClr val="666666"/>
                    </a:solidFill>
                    <a:latin typeface="Verdana"/>
                  </a:rPr>
                  <a:t> </a:t>
                </a:r>
                <a:r>
                  <a:rPr b="0" lang="en-US" sz="800" spc="-1" strike="noStrike">
                    <a:solidFill>
                      <a:srgbClr val="666666"/>
                    </a:solidFill>
                    <a:latin typeface="Verdana"/>
                  </a:rPr>
                  <a:t>                        </a:t>
                </a:r>
                <a:endParaRPr b="0" lang="en-US" sz="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pic>
        <p:nvPicPr>
          <p:cNvPr id="1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57200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hatsbet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5:00:49Z</dcterms:created>
  <dc:creator>Jefferson County Schools</dc:creator>
  <dc:description/>
  <dc:language>en-US</dc:language>
  <cp:lastModifiedBy> </cp:lastModifiedBy>
  <dcterms:modified xsi:type="dcterms:W3CDTF">2008-01-15T01:23:36Z</dcterms:modified>
  <cp:revision>11</cp:revision>
  <dc:subject/>
  <dc:title>Multiple Meaning Words</dc:title>
</cp:coreProperties>
</file>